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F10-F2FE-4C6A-886B-FB4A03F1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AB6-6442-4EC8-A8C8-6583F94F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C23-5E64-4823-B8BE-64B3A6B7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8ED-C117-40BD-A626-C3C6C0C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8BE-D43C-4B7A-927B-141DFB8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83B-A839-4B19-8417-655B453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B5F-837F-4110-B6C6-778615B4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DAD-9415-4A0D-86A8-70A7207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EE2-6EFE-4C50-A94A-7175B71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C91-E669-47A5-9F59-6F449D1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834-129F-4613-BF91-023C74A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C21-4ED2-4872-B890-1FDC46E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710-1F40-4011-B73A-6424CADF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5:21:54Z</dcterms:created>
  <dc:creator>11castorb</dc:creator>
  <dc:description/>
  <dc:language>en-US</dc:language>
  <cp:lastModifiedBy>11castorb</cp:lastModifiedBy>
  <dcterms:modified xsi:type="dcterms:W3CDTF">2008-05-21T15:21:59Z</dcterms:modified>
  <cp:revision>1</cp:revision>
  <dc:subject/>
  <dc:title>Slide 1</dc:title>
</cp:coreProperties>
</file>